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7F1-4257-4582-BCCD-C06381AD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9F8-51D6-4508-B6A8-422BDB67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B3B-3A34-4059-9E1E-2CEA4DA2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5B3-C2C7-4798-885A-29DE186A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B773-7027-4009-8D2D-8FCBB64D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CF91-1A8E-4CC7-81C8-66CB1CE6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B1E4-FA9C-4FEE-A353-0DB2F1BF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0D47-8A9D-4E28-A53D-085A3D03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B01F-5465-4B1B-B408-4479ED11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A5AD-8F2A-48F2-84B9-E42BF097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DD84-31FD-434D-AD34-2F1D9579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399-A823-4CEF-9DA8-147561D9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5674-3AF3-4051-BFEC-59552A59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6EC2-1095-4BA9-BED0-9678BF2B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CFAE-31CC-46AC-B30A-0AC831EC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A6BD-87A0-4C82-B1BF-6D11A7EB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FE7B-0BD3-4E78-9068-319E906E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5AD-FA28-45CA-BE8E-B4E14F78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F81-54E4-4EF5-8E5C-A03577E5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194-D4C6-471A-9C75-318A5A63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3BB-7D83-47CD-A2BB-7874C30E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D5A-5AAB-46BD-A3B5-2E84669B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873-7F5E-4A2D-8291-2D029164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D79-54C7-4475-B120-EA23CECF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A007-637D-499D-834B-2D42FBB2D0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1BC7-1B1D-461C-9858-34321A98A4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енежные реформ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43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Денежные реформы – это преобразование денежной системы (полное или частичное), осуществляемое государством с целью упорядочения и стабилизации </a:t>
            </a:r>
            <a:r>
              <a:rPr b="0" i="1" lang="ru-RU" sz="2400" spc="-1" strike="noStrike">
                <a:solidFill>
                  <a:srgbClr val="330033"/>
                </a:solidFill>
                <a:latin typeface="Arial"/>
              </a:rPr>
              <a:t>денежного обращения;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выражение финансово - экономической политики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ичины денежных рефор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Развитие денежной системы в результате инф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Необходимость сжатия излишка денежной массы, в обращение с учетом реальной потребности хозяйственного оборота в день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Изменение политического стро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Создание нового государ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Конфискация доходов, полученных преступным пут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Повышение доверия к национальным деньг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ды денежных рефор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86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Образование новой денежной системы в связи с изменением формы организации денежного обра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Частичное преобразование денежной системы: изменение порядка эмиссии, новое наименование </a:t>
            </a:r>
            <a:r>
              <a:rPr b="0" i="1" lang="ru-RU" sz="2400" spc="-1" strike="noStrike">
                <a:solidFill>
                  <a:srgbClr val="330033"/>
                </a:solidFill>
                <a:latin typeface="Arial"/>
              </a:rPr>
              <a:t>денежной единицы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и видов денежных зн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Стабилизация денежного обращения с целью сдерживания инфля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Денежные реформы</a:t>
            </a:r>
            <a:br>
              <a:rPr sz="4000"/>
            </a:b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 в отечественной истори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25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В 1535 году была проведена Еленой Глин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654 – 1663 гг. Проведена правительством царя Алексея Михайлови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698 – 1704 гг. – Петр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839 – 1843 гг. Под руководством министра финансов Е.Ф. Канк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895 – 1898 гг. – министр финансов С.Ю. Вит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922- 1924гг.- нарком финансов Г.Я. Со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947- конфискационная денежная рефор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961- министр финансов СССР А.Г. Звер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991- премьер- министр СССР В.С. Пав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992- 1993гг.- создание новой национальной денежной системы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4:22Z</dcterms:modified>
  <cp:revision>33</cp:revision>
  <dc:subject/>
  <dc:title>Денежные реформы России</dc:title>
</cp:coreProperties>
</file>